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90DC-3166-43C1-A156-8CE677F17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D63B-F322-4EED-9090-5F25548B1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E544-5F12-43E0-902D-98E684B76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B5D-78D3-48F2-96C8-8C08D885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5311-3B6F-4B91-A884-CE83E888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70B-E92E-4C23-826B-79077BAE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734-BFAB-4691-92AA-C82D95C9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377-E194-4E42-9480-F8C8CD18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CE2-1E58-46CA-9BD9-7D09587B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62D-A17F-4110-BDDF-6B002FB9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843-DA99-45C9-971F-548A047C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2B4-699C-4A4B-95F7-FE815114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4E6-0BCC-4B6B-BDDC-DCEC9DA8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2924-C365-429E-BEE6-E8D4C492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F04-B361-48F5-B8E1-1F3B6C8C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DB88-39E4-4CCB-8940-9F25A58444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6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6201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33720" y="4114440"/>
            <a:ext cx="4574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, </a:t>
            </a:r>
            <a:r>
              <a:rPr b="0" lang="en-US" sz="2200" spc="-1" strike="noStrike">
                <a:solidFill>
                  <a:srgbClr val="ff6600"/>
                </a:solidFill>
                <a:latin typeface="Calibri"/>
              </a:rPr>
              <a:t>I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417680"/>
            <a:ext cx="3581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Farmer engagement/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 5; not strong enoug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rn from successes and existing innovations (Innovation platforms in ‘mother’ Africa RI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4199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6840" y="141768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artnershi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ordination among sub-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e involvement of local institutions 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work with private sector for best res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4665600" y="1066680"/>
            <a:ext cx="4165560" cy="2438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2"/>
          <a:stretch/>
        </p:blipFill>
        <p:spPr>
          <a:xfrm>
            <a:off x="4665600" y="3733920"/>
            <a:ext cx="416556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77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78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Food Security and Coope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Ilong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losa, Mvomero, Babati, Kongwa, Kiteto and Kilombero DA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6094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ccelerate the scaling and delivery of agricultural technologies to improve smallholde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ai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arming systems, household nutrition, and dietary practic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590400" y="39625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caling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Expanding, adapting and sustaining successful policies, programs and projects in different places and over time to reach a greater number of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1"/>
          <p:cNvSpPr/>
          <p:nvPr/>
        </p:nvSpPr>
        <p:spPr>
          <a:xfrm>
            <a:off x="990720" y="53341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artn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frica RISING 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ITA Le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NAFAKA, TUBOCHA, national institutions,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9040" y="120780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Objectiv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1200600" y="3700440"/>
            <a:ext cx="6795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ter Crop Management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1187280" y="4559400"/>
            <a:ext cx="6837480" cy="520560"/>
          </a:xfrm>
          <a:prstGeom prst="rect">
            <a:avLst/>
          </a:pr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erving Natural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1174680" y="5392800"/>
            <a:ext cx="68659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Household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8"/>
          <p:cNvSpPr/>
          <p:nvPr/>
        </p:nvSpPr>
        <p:spPr>
          <a:xfrm>
            <a:off x="1184400" y="2881440"/>
            <a:ext cx="6840360" cy="520560"/>
          </a:xfrm>
          <a:prstGeom prst="rect">
            <a:avLst/>
          </a:prstGeom>
          <a:solidFill>
            <a:srgbClr val="d96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r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Up-Down Arrow 4"/>
          <p:cNvSpPr/>
          <p:nvPr/>
        </p:nvSpPr>
        <p:spPr>
          <a:xfrm>
            <a:off x="7723080" y="1884240"/>
            <a:ext cx="1476360" cy="505152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9a743a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ing Food Wastage and Spoil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Up-Down Arrow 10"/>
          <p:cNvSpPr/>
          <p:nvPr/>
        </p:nvSpPr>
        <p:spPr>
          <a:xfrm>
            <a:off x="14400" y="1879560"/>
            <a:ext cx="1473120" cy="5049720"/>
          </a:xfrm>
          <a:prstGeom prst="upDownArrow">
            <a:avLst>
              <a:gd name="adj1" fmla="val 50000"/>
              <a:gd name="adj2" fmla="val 50006"/>
            </a:avLst>
          </a:prstGeom>
          <a:solidFill>
            <a:srgbClr val="4ea5d8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ty Empowerment and 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2286000" y="685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Location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1"/>
          <a:stretch/>
        </p:blipFill>
        <p:spPr>
          <a:xfrm>
            <a:off x="1023840" y="1541520"/>
            <a:ext cx="8215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nd dissemination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59" name="Content Placeholder 3" descr=""/>
          <p:cNvPicPr/>
          <p:nvPr/>
        </p:nvPicPr>
        <p:blipFill>
          <a:blip r:embed="rId1"/>
          <a:stretch/>
        </p:blipFill>
        <p:spPr>
          <a:xfrm>
            <a:off x="820800" y="1600200"/>
            <a:ext cx="7502400" cy="45259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1523880" y="6324480"/>
            <a:ext cx="4724640" cy="3812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Linn et al.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: Maize exampl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2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5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xperienc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The innov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 of activities to project objectives and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 farmers in selection of the best for their agroeco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tibility with farmers’ inte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 selection very importa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Knowledge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indicators from the begi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ed data collection procedures (use of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DCF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156834"/>
                </a:solidFill>
                <a:latin typeface="Calibri"/>
              </a:rPr>
              <a:t>database for farm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and monitoring vis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12T15:36:39Z</dcterms:modified>
  <cp:revision>23</cp:revision>
  <dc:subject/>
  <dc:title>PowerPoint Presentation</dc:title>
</cp:coreProperties>
</file>